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59D-E8CE-4CE2-A36E-C3C47650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DF0B-95D3-4D8E-9F25-70C6757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193-6F28-4B08-A394-9C848193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6CD-D519-4FF6-BC2B-392634C6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933E-9C88-4894-99C0-39AEFB85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E66-BDC7-43EF-BD8F-8B35611B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59B-C54D-44E5-BCC6-5F2BBB2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9C36-53D6-49E7-8D17-BF0A6554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1F67-BA1E-410F-A563-ED25AD15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4C52-124F-4906-AD84-FCB2953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7512-5F4D-4C1A-B6AF-E5D7361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0F9-FE3C-49B4-AFE2-539687D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E055-49E5-45C3-8267-9D2C1BA5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CEA3-0A70-4529-86A7-EA593F8C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195C-0B54-4848-AF54-882CB66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F48C-9336-4E5D-A0A6-8C8AFE5E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85DD-279D-439D-AD9E-CAA94287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E88-EF5B-4F50-92A8-E291C54C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96D-17F0-4FFB-BF8D-3238D682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B9F-59CB-4242-BA54-DFA7DCFA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396-5909-4D34-902C-4E4AC476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37D-ECC2-419D-A044-FBE99326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EFA-ED46-4F83-A2A3-90D33372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7AD-68CE-4E53-BC81-25B3DE7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2A6-9D8A-4D00-8936-1AE4D28F1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667-56DD-4FC6-81A9-5C1B50A581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Vocabulary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0477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rooke&amp;&amp;Kennedy!((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33520"/>
            <a:ext cx="990360" cy="990360"/>
          </a:xfrm>
          <a:prstGeom prst="lightningBol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5181480"/>
            <a:ext cx="1190520" cy="1067040"/>
          </a:xfrm>
          <a:prstGeom prst="star5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reatestCommonFacto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st common factor of two or more givin numbers. :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388620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038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GCF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ixedNumb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made up of a whole number, that is not zero and a fraction. (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038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1 ½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ercent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tio comparing a number too 100(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8862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imate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n answer close to the exact answer by rounding or other methods. =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Flashcard of a math symbol for Approximately Equal To"/>
          <p:cNvPicPr/>
          <p:nvPr/>
        </p:nvPicPr>
        <p:blipFill>
          <a:blip r:embed="rId1"/>
          <a:stretch/>
        </p:blipFill>
        <p:spPr>
          <a:xfrm>
            <a:off x="2819520" y="3048120"/>
            <a:ext cx="2581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quivale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the same value(((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Flashcard of a math symbol for Equal To"/>
          <p:cNvPicPr/>
          <p:nvPr/>
        </p:nvPicPr>
        <p:blipFill>
          <a:blip r:embed="rId1"/>
          <a:stretch/>
        </p:blipFill>
        <p:spPr>
          <a:xfrm>
            <a:off x="3505320" y="2895480"/>
            <a:ext cx="2581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42:33Z</dcterms:created>
  <dc:creator>brooke.allen</dc:creator>
  <dc:description/>
  <dc:language>en-US</dc:language>
  <cp:lastModifiedBy>brooke.allen</cp:lastModifiedBy>
  <dcterms:modified xsi:type="dcterms:W3CDTF">2010-11-23T19:28:46Z</dcterms:modified>
  <cp:revision>2</cp:revision>
  <dc:subject/>
  <dc:title>-Vocabulary!!</dc:title>
</cp:coreProperties>
</file>